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CCB-86DC-4FA6-86DA-5A2F94FA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8A1-0D30-4170-9FEF-8AFBCB0D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F81-D0F6-4874-8A1C-3A8E50B3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FB1-862A-416F-815A-228EFB3F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C4A-0BEB-4189-BBE0-EE061A29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B61-01C1-4571-8217-C44FC0F4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4CF-B265-447E-A65A-6D87A0E2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372-163D-4CC4-8F1E-D930FE8B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A69-E286-4F6E-9127-89321B8D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BD1-6F87-440B-97C5-ABC14E9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F57-53F4-422C-B665-5EDE211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F4E-4D42-40D0-8DE9-A0C7C58C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9659-D02B-4865-9B56-4466D6205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3276720"/>
            <a:ext cx="8839080" cy="2895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234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00cc99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Comic Sans MS"/>
              </a:rPr>
              <a:t>In Catalonia,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00cc99"/>
                  </a:gs>
                  <a:gs pos="100000">
                    <a:srgbClr val="33cc33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00cc99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Comic Sans MS"/>
              </a:rPr>
              <a:t>we celebrate Carnival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00cc99"/>
                  </a:gs>
                  <a:gs pos="100000">
                    <a:srgbClr val="33cc33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00cc99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Comic Sans MS"/>
              </a:rPr>
              <a:t>just one day!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00cc99"/>
                  </a:gs>
                  <a:gs pos="100000">
                    <a:srgbClr val="33cc33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00cc99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Comic Sans MS"/>
              </a:rPr>
              <a:t>This year it was in Februar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00cc99"/>
                  </a:gs>
                  <a:gs pos="100000">
                    <a:srgbClr val="33cc33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00cc99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Comic Sans MS"/>
              </a:rPr>
              <a:t>in all villag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00cc99"/>
                  </a:gs>
                  <a:gs pos="100000">
                    <a:srgbClr val="33cc33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209680" cy="1663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4760" y="658800"/>
            <a:ext cx="20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he bigg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tudents, we did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shion show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0720" y="6094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t was grea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9480" y="838080"/>
            <a:ext cx="2078280" cy="276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09480" y="4191120"/>
            <a:ext cx="2214720" cy="1668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2341800" cy="1766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895480" y="16765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648320" y="1295280"/>
            <a:ext cx="16588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2760840" cy="207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2760840" cy="207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248520" y="304920"/>
            <a:ext cx="2760480" cy="207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2244600" cy="168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38080" y="3276720"/>
            <a:ext cx="2068560" cy="2760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809880" y="2362320"/>
            <a:ext cx="2214720" cy="166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6477120" y="3048120"/>
            <a:ext cx="2214360" cy="29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92200" y="110808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t was a nice da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1840" y="60948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e w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ou were her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8006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iend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324480" y="4724280"/>
            <a:ext cx="221472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48520" y="1981080"/>
            <a:ext cx="2214360" cy="1668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733920" y="2209680"/>
            <a:ext cx="1463400" cy="19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505320" y="4648320"/>
            <a:ext cx="1238040" cy="1658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62120" y="4584600"/>
            <a:ext cx="2057400" cy="155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581280" y="457200"/>
            <a:ext cx="1873440" cy="140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838080" y="2209680"/>
            <a:ext cx="210672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lso we celebrate carnival in school the Friday befo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08440" y="46134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ip R.Macip - D. Gran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5181480"/>
            <a:ext cx="168408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ur school party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0"/>
            <a:ext cx="611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achers and pupil went to school with carnival dress clothes just the Friday afternoon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3080" y="426708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d we had lot of fun all together :-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78240" y="5638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ok at these pi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ome teach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2224080" cy="1668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666880" cy="19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1658880" cy="221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086600" y="457200"/>
            <a:ext cx="1386000" cy="331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781680" y="39625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35268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d now some students,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First the youngest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2214360" cy="1658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19520" y="4114800"/>
            <a:ext cx="2214360" cy="165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80880" y="205740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2214360" cy="1658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257800" y="2133720"/>
            <a:ext cx="221472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95480" y="4343400"/>
            <a:ext cx="2291040" cy="1716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971800" y="205740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562720" y="2057400"/>
            <a:ext cx="2214360" cy="1658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638680" y="434340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80880" y="4343400"/>
            <a:ext cx="2286000" cy="1712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6960" y="3808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ents were outdoor looking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d now the primary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2214360" cy="1658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214720" cy="1658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10280" y="121932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rst of all,…,  our team :-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77120" y="39625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429000" y="4495680"/>
            <a:ext cx="1981080" cy="148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124080" y="2209680"/>
            <a:ext cx="1981440" cy="14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487692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221004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867280" y="497196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2209680" cy="1660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886200" y="685800"/>
            <a:ext cx="1386000" cy="1844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429000" y="2743200"/>
            <a:ext cx="1430280" cy="1909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457200" y="2895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5334120" y="2666880"/>
            <a:ext cx="149364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6248520" y="609480"/>
            <a:ext cx="1454040" cy="19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30880" y="4222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e had lot of fu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2273400" cy="304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00400" y="139212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95880" y="1420920"/>
            <a:ext cx="2514600" cy="1893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400800" y="4419720"/>
            <a:ext cx="2214720" cy="166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581280" y="4419720"/>
            <a:ext cx="2214720" cy="1668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85800" y="4267080"/>
            <a:ext cx="2214720" cy="166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8:25:53Z</dcterms:created>
  <dc:creator>Victor</dc:creator>
  <dc:description/>
  <dc:language>en-US</dc:language>
  <cp:lastModifiedBy>Cristina</cp:lastModifiedBy>
  <dcterms:modified xsi:type="dcterms:W3CDTF">2012-05-14T17:55:38Z</dcterms:modified>
  <cp:revision>40</cp:revision>
  <dc:subject/>
  <dc:title>Presentación de PowerPoint</dc:title>
</cp:coreProperties>
</file>